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3B6-B580-4898-9234-C41116BE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CD9-FAB6-4426-BB3D-4FBDDCF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6C2-9D6B-487D-8963-4D6642D1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B65-A5D7-4512-9851-DBCEB6D3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2B4-5999-4516-AC95-66F7082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BD0-0E28-4597-A1C7-4FE014BC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6CC-9F07-4517-8A0D-55A633D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01E-647F-4461-BF93-FEBCC56E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B63-265D-40EC-84EF-22E4056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F57-B429-4617-83D1-EA57B98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321-BD92-46F8-96BC-E05F673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BBA-859F-4B7D-BA24-8FFB486D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0D5-E739-4904-9BB0-CCA127DA169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Forced Migr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Case Study: </a:t>
            </a: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The Kosovo Albanians: March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ss migration of a large percentage of the Albanian population of Kosovo occurred in the first half of 1999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sovo is part of the former country of Yugoslavia, which after many bloody civil wars during the last decade has now split into a number of countries (Bosnia-Herzegovina, Slovenia, Macedonia, Croatia and Yugoslavia itself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sovo is a province in Southern Yugoslavia, which borders Albania and has a large proportion of its population who have come from that coun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thnic Clean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Yugoslavia's main population are Serbian, and they began to persecute the Kosovo Albanians, in an attempt to try to make them leav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exercise went on unchecked until March 31st 1998, when the United Nations passed resolution 1160, which condemned the excessive force used by Serbian police against Kosovan civilian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nfortunately the atrocities continued, with reports of "ethnic cleansing" occurring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d to the UN Security Council putting in place a military plan to force the Serbs out of Kosovo, whilst allowing the Albanians bac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tension rose between the Yugoslavian president Slobodan Milosevic and the United Nations, people literally flooded out of Kosovo, fleeing from the killing and destruction brought by the Se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850,000 people were forced to migrate, most of them ending up in huge refugee camps in neighbouring Albania, Macedonia and Monteneg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UN military offensive began on March 24th 1999, it was estimated that over 4,000 refugees were crossing the border from Kosovo every h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though the conflicts and deep-rooted hatred have not been fully resolved, the UNHCR announced that by the middle of August 1999, 95% of the Kosovan refugees had returned to their former homes, although many had found them burned down and destroy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ost Famous Forced Mig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ws forced to move from Germany, Poland and other European countries by Hitler's Nazi's before and during World War 2. (Genoci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ans forced to move out of Uganda by Idi Amin in the 1970's. (Threats of genoci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ricans forced to travel in cramped conditions on boats across the Atlantic to the United States 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. (The slave tra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ly 2 million Vietnamese have migrated to Hong Kong since the end if the Vietnam War in 1975. (Fear of persecution by Communist rebel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ost Famous Forced Mig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population of Monserrat have been forced to move to the North of the island or migrate due to volcanic eruptions, which have now gone on for a number of year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ss migrations by people in Ethiopia during the mid-1980's to look for water and food. (Drought meant that they had neither food or water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original population of Australia were prisoners from the United Kingdom, who were forced to go there, and usually stay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35:45Z</dcterms:created>
  <dc:creator>Dell_02</dc:creator>
  <dc:description/>
  <dc:language>en-US</dc:language>
  <cp:lastModifiedBy>Dell_02</cp:lastModifiedBy>
  <dcterms:modified xsi:type="dcterms:W3CDTF">2011-01-25T04:45:49Z</dcterms:modified>
  <cp:revision>2</cp:revision>
  <dc:subject/>
  <dc:title>Forced Migration</dc:title>
</cp:coreProperties>
</file>